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B68-7A2C-42AC-94E8-84FE0CFE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103-8A91-4108-8ACC-40474F6E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01C-7ED7-4963-B2B4-AB098BC7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635-A59C-497A-B154-A4A8A552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7D0-C67B-445F-B4F4-1C920760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9B6-B54E-4C7E-817D-8402B674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9AE-03D3-4B32-A6C3-DC638475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C82-A23A-40C0-ACF8-8135F7B8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DC6-EB4E-4CDB-B76D-A167795A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6C4-8637-46F9-8D40-64F5560E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885-7364-450C-9BD7-06782E9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C60-236F-482F-AD46-6F90E9A5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20DD-F2CE-4752-AF9B-300B1E2BC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1 Pane, ráč nás vi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ráč nás vi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pleti žitia c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úženému dospieť cieľ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, drahý Spasiteľ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nás veď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ečnosti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ase ťaž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nám stá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, Pane, kráča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doliami tejto z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ech vedie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j lásk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 v srdci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chybnosti vzd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ás priateľ náhle z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ú márne ľudské ra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nám z milosti, trpezliv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veď vždy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svetl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veď žitia úskali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láskou bdej nad n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z búrky i t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veď k víťazstvu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07:41:30Z</dcterms:modified>
  <cp:revision>20</cp:revision>
  <dc:subject/>
  <dc:title>Je veľký náš Pán, on slávy je Kráľ Nech do všetkých strán  spev vrúcnych znie chvál.</dc:title>
</cp:coreProperties>
</file>